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EFA-BC2D-432E-8790-AB60930F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F72-6BD4-4E23-AF1D-1277B9E6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C3E-B14B-4F56-85BF-DFAA8584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3AF-AB11-4296-88CB-5FCB2A26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4552-E5BA-4962-895B-30052197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4628-E8C5-4880-8D0C-0E9DC694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EF10-9D8E-421F-A674-E6DA6BBA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8B36-7D7B-4552-BC20-72F8E775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28AB-73D6-47A6-B5D4-67437144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5F45-D76F-406D-8883-E6D604AF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5F38-3732-43B6-AA2C-AC773F2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0C3-B564-4903-92D4-989CA21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B4B5-CAB2-4FCA-BEDB-D5E90A3D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6DFB-2EBB-416C-BBDE-632723ED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653C-6F61-405C-A06A-4A7109BA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F26B-2AD3-483E-8E48-F2915CCA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20BE-B9E8-4BCA-BC26-FDF694D4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E7E-679B-4DAE-A39D-E087CF3E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074-21AB-4F77-BDF6-69BA4795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354-79DD-4FCE-BB81-E5CF4473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893-4947-427E-B33F-972E9836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6A8-9277-480A-ABF1-AF6D36C9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663-73B5-485B-A148-4792B8ED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9D9-0E67-452E-96E5-839E6984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209C-28A0-4D79-BE72-E6CE973C7717}" type="slidenum">
              <a:rPr b="0" lang="es-MX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7218-87F9-4EC9-A56B-F87F40DD0779}" type="slidenum">
              <a:rPr b="0" lang="es-MX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LOS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entro de Salud Comunitaria San Andr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rora Estela Lóp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rco Juan Galin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¿Qué es una infecció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infecciones son invasiones de microbios en el cuer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microbios siempre están presentes, pero solamente causan enfermedades cuando se reproducen en gran cantidad y sin control dentro de nuestro cuer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¿Qué es un microbio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criaturas muy pequeñas que no se pueden observar a simple v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necesita un microscopio para verl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637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Aspecto de los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microbios tienen muy diferentes aspec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ay esféricos, alargados y en formas irregul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odos son muy pequeños y no se pueden ver a simple vi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incipales tipos de microb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cter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ng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32000" y="24955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Vir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Bacter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4863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ahoma"/>
              </a:rPr>
              <a:t>Hong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1779480"/>
            <a:ext cx="49690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3:13:32Z</dcterms:created>
  <dc:creator>rocio</dc:creator>
  <dc:description/>
  <dc:language>en-US</dc:language>
  <cp:lastModifiedBy>Silvia</cp:lastModifiedBy>
  <dcterms:modified xsi:type="dcterms:W3CDTF">2007-12-03T23:56:31Z</dcterms:modified>
  <cp:revision>10</cp:revision>
  <dc:subject/>
  <dc:title>LAS INFECCIONES</dc:title>
</cp:coreProperties>
</file>